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5D9-D47B-414B-B902-B5E4E1D2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24E-1284-45DA-9D82-6C271A42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F85-5395-4792-A45B-0D082167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88AF-1318-481E-ACC3-ACFBF746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BC21-0E49-4163-A9DC-0A0DC0C2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8F38-13EA-4617-8FC0-32390C3E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A9BE-522B-4317-B267-4249E1FE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BD7C-D91C-4BB1-A215-53673D66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35DB-3065-4C73-AE53-80B0E431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95BB-7877-435C-AC11-3764FCF9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7698-25AB-4236-B82D-83B38ED2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C09C-6176-4373-99C0-0D5F064F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B85A-1B66-4347-B6B3-67B247D8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9765-3A78-40C1-9CC1-4D7E307C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0467-EE4B-4EC3-88A8-28994AB3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2741-3E4C-406C-B11D-2BCD1A6D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9373-5FCC-48E7-9046-C72C793F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C753A-D28B-473C-BB17-0030ECAA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215A7-D15A-414F-8AD1-3880A385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49519-3063-4255-9977-65CA5126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1C4CA-C405-48E6-A86C-0E6A8E6C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93E45-5AB2-4971-8F39-4F76384D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4AE-4F94-45B2-A26A-CAF0121F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4F9CB-2631-42CE-880A-885A90BD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4C2EE-2419-49C1-AE88-F79F1C35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5A7AC-27D9-49EC-8775-269BA3AE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93ED1-B14A-4FD1-8D48-A139C5B1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B7DE3-FD2F-47E4-94DB-4F9D0893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F9A50-61E8-44DC-ADE2-312D7E3E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E8C62-7100-42B5-81FC-0FF390A0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63124-D48F-4F32-9902-19A42414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8B16C-3ADF-4110-93C4-0546C389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ED5B4-A8A6-4298-8C5F-59EE107F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553-06A5-43FF-9411-25DB1E3B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47E19-4A8B-4924-A8DB-369E589A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18111-F8A9-493D-BFE0-89A786B8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118E3-8289-4488-BAA1-36F731CA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5B016-3674-464D-ADB0-A4D7E1E2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93D7C-16AE-42F9-A42B-9199CC2D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42265-884C-4D4F-91E7-3D8136BB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88E10-672C-4CC2-A6DB-CB9C54AB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E3B08-E062-401F-A466-43F7FAB6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45F64-B5C9-4A42-B2FE-B0939E18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2BE3-6D3A-494A-9D81-EC1FC1A3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5A1-5A65-42E2-B5A3-84DBCB3A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03C-8114-4DFD-B388-8CFCE412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D108-28E7-4D7C-A01F-18EB2EE9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85B-AE76-40DE-9624-30137359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249C-115E-4A36-80C1-97959C2C3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7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1E5F-266B-4285-B777-8D93EF017B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6920" y="6165720"/>
            <a:ext cx="2358360" cy="621360"/>
            <a:chOff x="196920" y="6165720"/>
            <a:chExt cx="2358360" cy="621360"/>
          </a:xfrm>
        </p:grpSpPr>
        <p:graphicFrame>
          <p:nvGraphicFramePr>
            <p:cNvPr id="51" name=""/>
            <p:cNvGraphicFramePr/>
            <p:nvPr/>
          </p:nvGraphicFramePr>
          <p:xfrm>
            <a:off x="196920" y="616572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6572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59240" y="641880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E41F-2ED2-46FC-A8B2-BCC6152FD7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98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C4CA-0E3F-47D3-BA60-D24BAC279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142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secure.iquiero.com/peru/modules/services/security_privacy.asp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56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ECNOLOGIA Y NEGOCIOS”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11280" y="1717560"/>
            <a:ext cx="241128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AF1CE-4EED-427F-9ECE-A2E7F4DDFD0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16000" y="1322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B64C1-519A-4322-9A0A-E892E161D5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5ffff"/>
                </a:solidFill>
                <a:latin typeface="Tahoma"/>
              </a:rPr>
              <a:t>Verified by Vi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64000" y="3213000"/>
          <a:ext cx="223200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213000"/>
                    <a:ext cx="223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3A5B3-4AEB-46A0-A501-929675376B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57360" y="12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4320" y="692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Transacción VbV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22400" y="126828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1280" y="3421080"/>
            <a:ext cx="2905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1.Agregar un producto a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114720" y="1292400"/>
            <a:ext cx="2925720" cy="2193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51440" y="3433680"/>
            <a:ext cx="1311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2.Registra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107040" y="1306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341040" y="3429000"/>
            <a:ext cx="260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3. Importe Total en e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22400" y="3700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6760" y="5850000"/>
            <a:ext cx="295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4. Ingresar Tarjeta y ven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313524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614040" y="5850000"/>
            <a:ext cx="211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5. Ingresar Contraseñ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12468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352920" y="5843520"/>
            <a:ext cx="263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6. Pantalla final de respues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03240" y="3137040"/>
            <a:ext cx="235080" cy="120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11720" y="2305080"/>
            <a:ext cx="635040" cy="23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2165400"/>
            <a:ext cx="1295280" cy="561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5040" y="4683240"/>
            <a:ext cx="838080" cy="171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19600" y="4740120"/>
            <a:ext cx="571320" cy="142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3680" y="4403880"/>
            <a:ext cx="1219320" cy="371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C7863-0B59-40E4-AB24-5AC14528C6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dopción de VbV a nivel Glob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544760"/>
            <a:ext cx="86328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1 países representan el 99% del mercado global de e-commer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63640" y="2781360"/>
          <a:ext cx="5991120" cy="35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781360"/>
                    <a:ext cx="5991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46192-E344-4FE5-AE6E-C65BECE9E57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lgunas sugerencias para los </a:t>
            </a:r>
            <a:br>
              <a:rPr sz="3200"/>
            </a:b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comercios electrónic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912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nue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más grandes que las norm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con muchos items repet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apur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irecciones 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82A90-35E5-4327-B90F-4FBA2C2981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432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Visa, Por que la Tecnología es Ahora”</a:t>
            </a:r>
            <a:br>
              <a:rPr sz="32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Aplicaciones globales para 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el mercado local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643280" y="518004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961080" cy="32400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42648-23B2-47F9-96D3-98B95BF4EDEC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resencia de las nuevas tecnologías en la sociedad es cada vez más perceptible y no sólo afecta a factores económicos y empresariales como la producción, la distribución, el mercado o el empleo, sino que comienza a convertirse en piedra angular de cualquier actividad humana moder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Printed Circuit Board"/>
          <p:cNvPicPr/>
          <p:nvPr/>
        </p:nvPicPr>
        <p:blipFill>
          <a:blip r:embed="rId2"/>
          <a:stretch/>
        </p:blipFill>
        <p:spPr>
          <a:xfrm>
            <a:off x="5724360" y="184464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C00EB-5F1D-4CC4-A5AC-A21EF9482E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desarrollo tecnológico como la Internet, las comunicaciones móviles, banda ancha, satélites, las microondas, etc.– estan produciendo cambios significativos en la estructura económica y social, y en el conjunto de las relaciones so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mos ante un nuevo modelo social, l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sociedad globalizada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n el que las fronteras desaparecen en beneficio de los intercambios de ideas, mensajes, productos, servicios, personas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scifi112"/>
          <p:cNvPicPr/>
          <p:nvPr/>
        </p:nvPicPr>
        <p:blipFill>
          <a:blip r:embed="rId2"/>
          <a:stretch/>
        </p:blipFill>
        <p:spPr>
          <a:xfrm>
            <a:off x="5651640" y="2519280"/>
            <a:ext cx="3168360" cy="22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845EE-FA4C-4909-8B3D-5EBFB9FDFE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os procesos de negoci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n el uso de las nuevas tecnologías, se tiene la gran oportunidad de redefinir los procesos de negocio mejorándolos importantemente y reduciendo sus cos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as acciones de comunicació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uede emplear Internet para la mejora de las comunicaciones tanto con los clientes como con los proveedores. Esto repercutirá directamente en los costes de comunicación reduciéndolos drástic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Fidelización de los cliente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os momentos, ninguna organización puede permitirse perder clientes. Para ello, tener las correctas estrategias de fidelización de clientes apoyadas por las nuevas tecnologías e Internet puede ser definiti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247EE-8679-47FF-A637-C45A1DC8F5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aptación de clientes a costes "razonables"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mpleando Internet para el desarrollo de acciones a un coste interesante, lo que repercutirá en los ingresos de la empresa con una inversión, y por tanto riesgo, permisi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Reducción de costes de compra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cias a la eliminación de intermediarios, descubrimiento de nuevos proveedores y al uso de subastas en las tiendas virtuales (e-marketplace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421E0-1913-40C5-9A04-742890070C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6040" y="1622520"/>
            <a:ext cx="7935840" cy="4408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1647720"/>
          <a:ext cx="815508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47720"/>
                    <a:ext cx="81550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38120" y="387360"/>
            <a:ext cx="79628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actores Determinantes en </a:t>
            </a:r>
            <a:br>
              <a:rPr sz="3200"/>
            </a:b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la Compra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619280" y="4024440"/>
            <a:ext cx="2322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20960" y="3592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EB111-7D90-4464-8277-669E6734FF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tipos de fraude más comunes son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El uso de tarjetas de crédito robada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Utilización de identidades falsa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Software generador de números de tarj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) Paginas clon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" y="4094280"/>
            <a:ext cx="2146320" cy="1422360"/>
            <a:chOff x="324000" y="4094280"/>
            <a:chExt cx="2146320" cy="1422360"/>
          </a:xfrm>
        </p:grpSpPr>
        <p:sp>
          <p:nvSpPr>
            <p:cNvPr id="205" name=""/>
            <p:cNvSpPr/>
            <p:nvPr/>
          </p:nvSpPr>
          <p:spPr>
            <a:xfrm>
              <a:off x="324000" y="4094280"/>
              <a:ext cx="214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 del Tarjetahabiente 9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684360" y="4640040"/>
              <a:ext cx="1368360" cy="87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2627280" y="4075200"/>
            <a:ext cx="1765440" cy="1338120"/>
            <a:chOff x="2627280" y="4075200"/>
            <a:chExt cx="1765440" cy="1338120"/>
          </a:xfrm>
        </p:grpSpPr>
        <p:sp>
          <p:nvSpPr>
            <p:cNvPr id="208" name=""/>
            <p:cNvSpPr/>
            <p:nvPr/>
          </p:nvSpPr>
          <p:spPr>
            <a:xfrm>
              <a:off x="2627280" y="4075200"/>
              <a:ext cx="176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del Comercio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3065400" y="4749840"/>
            <a:ext cx="960480" cy="66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65400" y="4749840"/>
                      <a:ext cx="9604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1" name=""/>
          <p:cNvGrpSpPr/>
          <p:nvPr/>
        </p:nvGrpSpPr>
        <p:grpSpPr>
          <a:xfrm>
            <a:off x="4716360" y="4075560"/>
            <a:ext cx="1798560" cy="936000"/>
            <a:chOff x="4716360" y="4075560"/>
            <a:chExt cx="1798560" cy="936000"/>
          </a:xfrm>
        </p:grpSpPr>
        <p:sp>
          <p:nvSpPr>
            <p:cNvPr id="212" name=""/>
            <p:cNvSpPr/>
            <p:nvPr/>
          </p:nvSpPr>
          <p:spPr>
            <a:xfrm>
              <a:off x="4851360" y="4686120"/>
              <a:ext cx="1465200" cy="325440"/>
            </a:xfrm>
            <a:prstGeom prst="leftRightArrow">
              <a:avLst>
                <a:gd name="adj1" fmla="val 50000"/>
                <a:gd name="adj2" fmla="val 8962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6360" y="4075560"/>
              <a:ext cx="17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Encripción del Canal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00760" y="4065480"/>
            <a:ext cx="2019240" cy="1739880"/>
            <a:chOff x="6800760" y="4065480"/>
            <a:chExt cx="2019240" cy="1739880"/>
          </a:xfrm>
        </p:grpSpPr>
        <p:sp>
          <p:nvSpPr>
            <p:cNvPr id="215" name=""/>
            <p:cNvSpPr/>
            <p:nvPr/>
          </p:nvSpPr>
          <p:spPr>
            <a:xfrm>
              <a:off x="7376760" y="5075280"/>
              <a:ext cx="979200" cy="730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00760" y="4065480"/>
              <a:ext cx="201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taques a la base de datos del Comercio (Ejemplo, Hacker)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FC1EC-AA83-4FEF-B4BE-592686EFAA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mismo el 47% cree que añadiendo un logo o icono de algunas soluciones dedicadas a la seguridad en las transacciones y que influyan en la confianza del usuario ayudarían a suavizar el miedo de los consumidore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081080" cy="105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780000" y="4221000"/>
            <a:ext cx="82224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4005360"/>
            <a:ext cx="7938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E5099-0328-4FCC-AF2F-88AC1B0AB9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0920" y="762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Requisitos de Seguridad en los Pa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360" y="198900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tro Princip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285264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437832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80196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ase de datos ( Información del cl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F2FA6-ABAC-4201-9F43-0520E22700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9:48:55Z</dcterms:created>
  <dc:creator>crodriguez</dc:creator>
  <dc:description/>
  <dc:language>en-US</dc:language>
  <cp:lastModifiedBy>jore</cp:lastModifiedBy>
  <dcterms:modified xsi:type="dcterms:W3CDTF">2004-11-25T13:21:24Z</dcterms:modified>
  <cp:revision>51</cp:revision>
  <dc:subject/>
  <dc:title>Visa, Por que la Tecnología es ahora, aplicaciones globales para el mercado local</dc:title>
</cp:coreProperties>
</file>