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5ED8-087E-4B89-AC71-9A161600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DEB7-EA84-4039-AB64-A6493E50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0110-CDBD-4E5D-B85A-D3F5C18A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2071-35CC-40A9-8BF1-6D46E4F2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02A3-3839-4F2B-BFCD-5B76ECFB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3BFD-DDD4-468B-A911-6CA6ABB9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8272-E41A-4403-9828-08A9B80C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407F-5629-499B-BA62-78CBA0E9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DB75-8BF3-49FC-97F3-7E0DEBD3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AABB-9141-4B17-8C26-51A6D17C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CC86-7F03-4071-8D99-F292636C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61C8-851B-41DC-BADA-D18FB301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98BD-711B-4445-B9ED-28DEBA7C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EF12-0BBF-4F0E-8491-E28A9093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090A-52C7-4E2F-A1DF-98A74EEA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53DA-1794-4C80-ADD0-7F6B3444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FCC1-6655-46F2-B516-5C6B77CF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A8113-E3BA-4DF7-B3D2-38648EA9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9450E-74C2-4785-922C-8703A3B3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27385-F85B-4F4D-9D5B-BDDFB87E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F991E-5285-4781-84F7-5CB241B5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F1458-2C17-418F-8FAD-E5616A9D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73C2-8C47-4DBC-A3EC-FC6FD1BA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3C118-1AEA-49F3-ADEE-C04116C2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E4FD1-AA38-40B7-97BF-88692022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BF11F-0C0D-4680-BA3C-DE74CA80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85C9C-245A-4436-A289-2E96FE7E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CA38C-7593-41B1-8328-5912230A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D507D-4A66-4FD7-BF35-02F6E772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B5A3D-6336-4DB8-811E-673259FD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E451D-7194-491C-A441-CE789BB4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D7757-E637-4DDC-B008-9FA18C80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BC649-AFDA-444D-BB79-E1941EBC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665A-7AEC-4118-8235-EB71D9E4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20A43-A491-4E74-B35F-4294C37D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7A509-C97F-4DE8-B150-2F4715B6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41B65-C7F4-4D9C-9C0B-832D35CA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E2511-3A2F-4ED0-A0F5-D7390A49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1DB26-2FC5-4726-9F27-54DA8BA5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9A935-3A52-42ED-83B1-4574EE5A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D9E40-E874-47FA-86B5-B663EFC8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AAE12-4B01-45CE-AF4E-25434A7C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5ED45-69B5-4F2A-9C57-8BE42B72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E7B5-3A45-422F-BA86-8D9A4871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A20E-F656-4BBA-A5FF-B16693B2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06D2-9609-4114-9224-9FFAB179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7196-4029-45C7-AAC7-FB90D089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EA08-53D1-4127-88C8-CBDE6F9C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3C4A-4E29-4473-97C3-2CEF59F77B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7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0555-2796-4879-8990-9BFA683E0C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6920" y="6165720"/>
            <a:ext cx="2358360" cy="621360"/>
            <a:chOff x="196920" y="6165720"/>
            <a:chExt cx="2358360" cy="621360"/>
          </a:xfrm>
        </p:grpSpPr>
        <p:graphicFrame>
          <p:nvGraphicFramePr>
            <p:cNvPr id="51" name=""/>
            <p:cNvGraphicFramePr/>
            <p:nvPr/>
          </p:nvGraphicFramePr>
          <p:xfrm>
            <a:off x="196920" y="616572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6572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759240" y="641880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50B4-F7CD-4850-ADD7-38E8CDA4E7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98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2B78-66C6-4FF5-BA4E-EB192BBF27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142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secure.iquiero.com/peru/modules/services/security_privacy.asp" TargetMode="Externa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956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TECNOLOGIA Y NEGOCIOS”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643280" y="472428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11280" y="1717560"/>
            <a:ext cx="2411280" cy="35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F0332-1CAB-44AC-82A6-CBA29C3642E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116000" y="132228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37DCD-21AE-4A63-A64D-159FF07EA2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5ffff"/>
                </a:solidFill>
                <a:latin typeface="Tahoma"/>
              </a:rPr>
              <a:t>Verified by Vi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564000" y="3213000"/>
          <a:ext cx="2232000" cy="122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213000"/>
                    <a:ext cx="22320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BB56B-F6C4-48EF-9ADE-A9E39FCCE1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57360" y="1206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4320" y="692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Transacción VbV…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22400" y="126828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1280" y="3421080"/>
            <a:ext cx="2905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1.Agregar un producto a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3114720" y="1292400"/>
            <a:ext cx="2925720" cy="2193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051440" y="3433680"/>
            <a:ext cx="1311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2.Registrar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107040" y="1306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341040" y="3429000"/>
            <a:ext cx="260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3. Importe Total en e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22400" y="3700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6760" y="5850000"/>
            <a:ext cx="295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4. Ingresar Tarjeta y vencimi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313524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614040" y="5850000"/>
            <a:ext cx="211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5. Ingresar Contraseñ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612468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352920" y="5843520"/>
            <a:ext cx="2631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6. Pantalla final de respues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03240" y="3137040"/>
            <a:ext cx="235080" cy="120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11720" y="2305080"/>
            <a:ext cx="635040" cy="235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2165400"/>
            <a:ext cx="1295280" cy="561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05040" y="4683240"/>
            <a:ext cx="838080" cy="171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19600" y="4740120"/>
            <a:ext cx="571320" cy="142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43680" y="4403880"/>
            <a:ext cx="1219320" cy="371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A0051-8F6B-41BC-A62B-71EE1F9A0E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dopción de VbV a nivel Global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544760"/>
            <a:ext cx="863280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61 países representan el 99% del mercado global de e-commer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763640" y="2781360"/>
          <a:ext cx="5991120" cy="35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2781360"/>
                    <a:ext cx="5991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78C7F-4684-41FF-B181-0C8ABAE3E7A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lgunas sugerencias para los </a:t>
            </a:r>
            <a:br>
              <a:rPr sz="3200"/>
            </a:b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comercios electrónico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9120" y="198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nue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más grandes que las norm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con muchos items repet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apur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irecciones internacio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99D3D-4173-49E7-8C97-45A1D35E4C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432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Visa, Por que la Tecnología es Ahora”</a:t>
            </a:r>
            <a:br>
              <a:rPr sz="32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Aplicaciones globales para 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el mercado local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643280" y="518004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3961080" cy="324000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43D67-998A-4B0D-9001-521D55311B74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presencia de las nuevas tecnologías en la sociedad es cada vez más perceptible y no sólo afecta a factores económicos y empresariales como la producción, la distribución, el mercado o el empleo, sino que comienza a convertirse en piedra angular de cualquier actividad humana modern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Printed Circuit Board"/>
          <p:cNvPicPr/>
          <p:nvPr/>
        </p:nvPicPr>
        <p:blipFill>
          <a:blip r:embed="rId2"/>
          <a:stretch/>
        </p:blipFill>
        <p:spPr>
          <a:xfrm>
            <a:off x="5724360" y="1844640"/>
            <a:ext cx="29592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316F3-12CF-4980-A0BE-589E1C4EC7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24160" y="4478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6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desarrollo tecnológico como la Internet, las comunicaciones móviles, banda ancha, satélites, las microondas, etc.– estan produciendo cambios significativos en la estructura económica y social, y en el conjunto de las relaciones soc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mos ante un nuevo modelo social, l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sociedad globalizada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n el que las fronteras desaparecen en beneficio de los intercambios de ideas, mensajes, productos, servicios, personas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scifi112"/>
          <p:cNvPicPr/>
          <p:nvPr/>
        </p:nvPicPr>
        <p:blipFill>
          <a:blip r:embed="rId2"/>
          <a:stretch/>
        </p:blipFill>
        <p:spPr>
          <a:xfrm>
            <a:off x="5651640" y="2519280"/>
            <a:ext cx="3168360" cy="22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B0C74-7DB7-41DA-BD80-17E63DD652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6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os procesos de negocio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Con el uso de las nuevas tecnologías, se tiene la gran oportunidad de redefinir los procesos de negocio mejorándolos importantemente y reduciendo sus cos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as acciones de comunicación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uede emplear Internet para la mejora de las comunicaciones tanto con los clientes como con los proveedores. Esto repercutirá directamente en los costes de comunicación reduciéndolos drástica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Fidelización de los cliente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stos momentos, ninguna organización puede permitirse perder clientes. Para ello, tener las correctas estrategias de fidelización de clientes apoyadas por las nuevas tecnologías e Internet puede ser definitiv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70E55-F43A-4F54-A331-3DB9CA9A79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aptación de clientes a costes "razonables"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mpleando Internet para el desarrollo de acciones a un coste interesante, lo que repercutirá en los ingresos de la empresa con una inversión, y por tanto riesgo, permisib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Reducción de costes de compra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cias a la eliminación de intermediarios, descubrimiento de nuevos proveedores y al uso de subastas en las tiendas virtuales (e-marketplace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01FD5-33B9-4347-B384-10F5A34A9A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46040" y="1622520"/>
            <a:ext cx="7935840" cy="44085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68360" y="1647720"/>
          <a:ext cx="8155080" cy="451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647720"/>
                    <a:ext cx="815508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438120" y="387360"/>
            <a:ext cx="79628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actores Determinantes en </a:t>
            </a:r>
            <a:br>
              <a:rPr sz="3200"/>
            </a:b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la Compra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virt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619280" y="4024440"/>
            <a:ext cx="232236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20960" y="35924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3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7FF75-0708-4A7B-8739-1B480D78DB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tipos de fraude más comunes son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 El uso de tarjetas de crédito robada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) Utilización de identidades falsas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) Software generador de números de tarje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) Paginas clon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24000" y="4094280"/>
            <a:ext cx="2146320" cy="1422360"/>
            <a:chOff x="324000" y="4094280"/>
            <a:chExt cx="2146320" cy="1422360"/>
          </a:xfrm>
        </p:grpSpPr>
        <p:sp>
          <p:nvSpPr>
            <p:cNvPr id="205" name=""/>
            <p:cNvSpPr/>
            <p:nvPr/>
          </p:nvSpPr>
          <p:spPr>
            <a:xfrm>
              <a:off x="324000" y="4094280"/>
              <a:ext cx="214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 del Tarjetahabiente 95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684360" y="4640040"/>
              <a:ext cx="1368360" cy="87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2627280" y="4075200"/>
            <a:ext cx="1765440" cy="1338120"/>
            <a:chOff x="2627280" y="4075200"/>
            <a:chExt cx="1765440" cy="1338120"/>
          </a:xfrm>
        </p:grpSpPr>
        <p:sp>
          <p:nvSpPr>
            <p:cNvPr id="208" name=""/>
            <p:cNvSpPr/>
            <p:nvPr/>
          </p:nvSpPr>
          <p:spPr>
            <a:xfrm>
              <a:off x="2627280" y="4075200"/>
              <a:ext cx="1765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del Comercio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209" name=""/>
            <p:cNvGraphicFramePr/>
            <p:nvPr/>
          </p:nvGraphicFramePr>
          <p:xfrm>
            <a:off x="3065400" y="4749840"/>
            <a:ext cx="960480" cy="66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65400" y="4749840"/>
                      <a:ext cx="9604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1" name=""/>
          <p:cNvGrpSpPr/>
          <p:nvPr/>
        </p:nvGrpSpPr>
        <p:grpSpPr>
          <a:xfrm>
            <a:off x="4716360" y="4075560"/>
            <a:ext cx="1798560" cy="936000"/>
            <a:chOff x="4716360" y="4075560"/>
            <a:chExt cx="1798560" cy="936000"/>
          </a:xfrm>
        </p:grpSpPr>
        <p:sp>
          <p:nvSpPr>
            <p:cNvPr id="212" name=""/>
            <p:cNvSpPr/>
            <p:nvPr/>
          </p:nvSpPr>
          <p:spPr>
            <a:xfrm>
              <a:off x="4851360" y="4686120"/>
              <a:ext cx="1465200" cy="325440"/>
            </a:xfrm>
            <a:prstGeom prst="leftRightArrow">
              <a:avLst>
                <a:gd name="adj1" fmla="val 50000"/>
                <a:gd name="adj2" fmla="val 8962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16360" y="4075560"/>
              <a:ext cx="17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Encripción del Canal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1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800760" y="4065480"/>
            <a:ext cx="2019240" cy="1739880"/>
            <a:chOff x="6800760" y="4065480"/>
            <a:chExt cx="2019240" cy="1739880"/>
          </a:xfrm>
        </p:grpSpPr>
        <p:sp>
          <p:nvSpPr>
            <p:cNvPr id="215" name=""/>
            <p:cNvSpPr/>
            <p:nvPr/>
          </p:nvSpPr>
          <p:spPr>
            <a:xfrm>
              <a:off x="7376760" y="5075280"/>
              <a:ext cx="979200" cy="730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00760" y="4065480"/>
              <a:ext cx="201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taques a la base de datos del Comercio (Ejemplo, Hacker)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1423B-F55E-470E-A056-85343F2699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mismo el 47% cree que añadiendo un logo o icono de algunas soluciones dedicadas a la seguridad en las transacciones y que influyan en la confianza del usuario ayudarían a suavizar el miedo de los consumidore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1081080" cy="1055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780000" y="4221000"/>
            <a:ext cx="822240" cy="936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6000" y="4005360"/>
            <a:ext cx="793800" cy="12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699E4-307C-4C0B-84A3-63D64FBA2B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50920" y="762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Requisitos de Seguridad en los Pa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360" y="198900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tro Princip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5360" y="285264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437832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80196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ase de datos ( Información del clie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B91F1-248E-4101-96CD-1A639CDBA6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9:48:55Z</dcterms:created>
  <dc:creator>crodriguez</dc:creator>
  <dc:description/>
  <dc:language>en-US</dc:language>
  <cp:lastModifiedBy>jore</cp:lastModifiedBy>
  <dcterms:modified xsi:type="dcterms:W3CDTF">2004-11-25T13:21:24Z</dcterms:modified>
  <cp:revision>51</cp:revision>
  <dc:subject/>
  <dc:title>Visa, Por que la Tecnología es ahora, aplicaciones globales para el mercado local</dc:title>
</cp:coreProperties>
</file>